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E9E2-FE15-4A64-9C59-4834D0C1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15D-D1A6-40DA-80F9-6231A036C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844E-6B64-4247-BD60-00C210AD5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853-F6D3-48B1-B023-3D68EF66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9FD1-BEC7-4FAE-83ED-9B4D80AD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F934-3928-4B61-911B-BDFC2765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4FD9-AD3A-4390-9157-53633B8F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D1F5-7FB4-48AF-B95D-880DE737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948-FF0C-4ACC-845A-45060A57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73C-F5E1-487B-94D5-518FA57B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EE5-CDB0-4005-91D4-CDEB3DCF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46C-C325-46E6-B16A-1A0D3EC4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463-F2AA-44DD-BD0D-1D218631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BAA-D30F-432A-8553-C2CC379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89F-5D56-4063-8066-452CC0B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DAF-B258-452A-BB6B-537473F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CEC-4BFD-40FE-AA89-8B0E508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302-3F8E-40D5-A05F-7267FD9B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BCD-CC13-4E6A-B7A3-42CB69A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4AD-07FF-4C6D-92F7-E7B98A2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6CB8-D85C-41F9-8ECE-4804E91D466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ICK A BALE OF COTTON"/>
          <p:cNvPicPr/>
          <p:nvPr/>
        </p:nvPicPr>
        <p:blipFill>
          <a:blip r:embed="rId1"/>
          <a:stretch/>
        </p:blipFill>
        <p:spPr>
          <a:xfrm>
            <a:off x="1619280" y="333360"/>
            <a:ext cx="6553080" cy="6327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468360" y="1844640"/>
            <a:ext cx="8353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zte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starts with a priest cutting the persons chest and taking out thei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ut the heart in a vessel and hoped that it please the Gods and that the world would keep on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ongue Pierc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ongue piercings was a traditional Aztec and Mayan 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priests would pierce tongues then they would draw blood from it or pass rough cords through the hole to inflic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s was done to honour the G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ce on the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and political aspects of Aztecs society is based around their religious ri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ruling class was based on both ability and birth, a legal system and a strong moral code that gave great importance to family and communit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major aspects to the Aztec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first, is that they developed sophisticated methods of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believe that the Gods could ensure them a plentiful harvest if they performed ri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second, is that they were warring people, seeking victims to sacrifice to their blood-hungry g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rriors were among the elite of Azte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agle warriors were adorned with feathers and Jaguar warriors wore the skin of oce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he human search for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religious beliefs justified war and provided unity to their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dominated politics and therefore determined their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lot of human sacrificing going on so then they had to make sure that they could expand on their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ztecs and their mus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95280" y="115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http://www.youtube.com/watch?v=Vc-XgOR0p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ShockwaveFlash1"/>
          <p:cNvGraphicFramePr/>
          <p:nvPr/>
        </p:nvGraphicFramePr>
        <p:xfrm>
          <a:off x="324000" y="1268280"/>
          <a:ext cx="864072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640720" cy="532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s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creation story is that the dual God Ometecuhtli/Omecihuatl created itself. This God then had 4 children which came to represent the 4 directions north, south, east and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od represents good and bad, chaos and order and male and fem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4 Gods began to create water and other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s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God’s created a sea monster called Cipact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 God’s were creating the world, creations would fall into the sea and be eaten by Cipact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God’s defeated the creature and pulled it in four directions. From this the universe wa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13 heavens stretched into her head. The earth was created in the middle, and her tail reaches down to the under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al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tec beliefs were based in their perception of nature, its time space, and cy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liefs were varied and v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lieved in heaven and hell, in fact they believed in multiple heavens and 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lieved that the sun wrestled with darkness each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belief in the afterlife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belief was that how you died depended on where you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; If an individual died in a war, they would immediately go to the sun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 individual died for a reason that was no specified, they would have to travel through the underworld before reaching the resting place of th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natural powers and de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s worshipped  nearly 1000 God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prominent of the Gods was the sun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’s praised their Gods extensively. They would sacrifice tens of thousands of people to please the 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celebrated religious days is the O’Nothing Day where priests would get dressed up as the Gods and go to an extinct volcano and perform human sacri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 G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tec rulers were seen as the embodiment of the Aztec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in Gods w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itzilopochtli, Tlaloc, and Tezcatlip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Gods incl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lacoya -- goddess of 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Chiconahui – a domestic fertility godd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Citlalicue – a creator of the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Cipactonal – god of astrology, sorcery (witchc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xomoco – goddess of ast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Xochiquezal – goddess of female sexuality, prostitutes, pl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atecatl – god of healing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peyote (a hallucinoge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 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itual and ceremony helps the Aztecs come closer to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ituals aren’t done properly then direct consequences will be enfor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ituals include human sacrifices, tongue pie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9280" y="1159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http://www.youtube.com/watch?v=SvGngrBIk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ShockwaveFlash2"/>
          <p:cNvGraphicFramePr/>
          <p:nvPr/>
        </p:nvGraphicFramePr>
        <p:xfrm>
          <a:off x="468360" y="1268280"/>
          <a:ext cx="8496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49636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2:54:02Z</dcterms:created>
  <dc:creator>Administrator</dc:creator>
  <dc:description/>
  <dc:language>en-US</dc:language>
  <cp:lastModifiedBy>Chantelle</cp:lastModifiedBy>
  <dcterms:modified xsi:type="dcterms:W3CDTF">2010-08-11T10:57:11Z</dcterms:modified>
  <cp:revision>28</cp:revision>
  <dc:subject/>
  <dc:title>Slide 1</dc:title>
</cp:coreProperties>
</file>